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5D97-4085-4C9D-91A3-31DB4CA34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FB0A-3136-46F4-B06F-05DFEC84A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3A73-ACB5-4584-9915-104F18700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FE66-C789-4B3F-9E9A-99E1EB3F2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6B2B7-813F-4E46-B3A0-DC8EF8257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41CB7-40B7-490C-B84C-850DEC953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9AD99-175C-473D-B3B8-4B737F34B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06320-42A1-4391-B0F5-A21204BFB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D2B70-93CA-49C0-9BAF-91925661F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C34C1-DE42-4C6C-81F0-E8CF330D2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B36A0-AF21-43C4-B64C-E418E304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5BAF-3F3C-4C08-A2DB-11554DCFD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2BA33-2A4A-44E3-8BBF-76525661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55162-3349-49C8-BE4D-CC482B43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C95C9-94E5-4B21-9ACB-C46596EF5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58F97-8753-41B6-ACE1-19AB6A124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5E757-2273-4C73-9133-717B8F5E4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CA19-9F8B-443F-92A9-837FE28A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B1E5-4591-4BAA-94B5-21122768A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B1B4-1340-4C7B-B46F-A2692AD77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4812-939A-4D5E-90C1-20A299E36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38C9-C9D0-4E4F-928A-0D3FA187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4214-D629-40EC-A351-AED3F044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17FC-741A-4D00-AE29-371FC17F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CB077-4CB8-49F2-9B80-E4218E0EB32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46D6C-4F5B-4161-8954-AA8758A1A7D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dobe Caslon Pro Bold"/>
              </a:rPr>
              <a:t>Cancún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By Johnathan Stewar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" descr="Cancun Hotels"/>
          <p:cNvPicPr/>
          <p:nvPr/>
        </p:nvPicPr>
        <p:blipFill>
          <a:blip r:embed="rId1"/>
          <a:stretch/>
        </p:blipFill>
        <p:spPr>
          <a:xfrm>
            <a:off x="3352680" y="4572000"/>
            <a:ext cx="2971800" cy="2286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8" dur="2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Blackoak Std"/>
              </a:rPr>
              <a:t>The spo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rlemagne Std"/>
              </a:rPr>
              <a:t>Long walks on the bea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rlemagne Std"/>
              </a:rPr>
              <a:t>Relaxing with the famil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rlemagne Std"/>
              </a:rPr>
              <a:t>Surfing with frien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1" name="" descr="Mexico, Tulum beach"/>
          <p:cNvPicPr/>
          <p:nvPr/>
        </p:nvPicPr>
        <p:blipFill>
          <a:blip r:embed="rId1"/>
          <a:stretch/>
        </p:blipFill>
        <p:spPr>
          <a:xfrm>
            <a:off x="7162920" y="3657600"/>
            <a:ext cx="1628640" cy="32004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mexico's playa del carmen beach"/>
          <p:cNvPicPr/>
          <p:nvPr/>
        </p:nvPicPr>
        <p:blipFill>
          <a:blip r:embed="rId2"/>
          <a:stretch/>
        </p:blipFill>
        <p:spPr>
          <a:xfrm>
            <a:off x="7315200" y="838080"/>
            <a:ext cx="1628640" cy="266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Minion Pro Cond"/>
              </a:rPr>
              <a:t>Loc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t is a tiny but perfectly-formed white sandy cove, with a few palm shade and the azure Caribbean sea to swim in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ocation: 2.5 km at the beginning of the Hotel Zon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ood place for swimming, relaxing and varied water sports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038480" y="2286000"/>
            <a:ext cx="44960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ctiviti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ajan Pro"/>
              </a:rPr>
              <a:t>Play volleybal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ajan Pro"/>
              </a:rPr>
              <a:t>Surf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ajan Pro"/>
              </a:rPr>
              <a:t>Eat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ajan Pro"/>
              </a:rPr>
              <a:t>Sand figh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ajan Pro"/>
              </a:rPr>
              <a:t>Relax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8" name="" descr="Cancun Beach"/>
          <p:cNvPicPr/>
          <p:nvPr/>
        </p:nvPicPr>
        <p:blipFill>
          <a:blip r:embed="rId1"/>
          <a:stretch/>
        </p:blipFill>
        <p:spPr>
          <a:xfrm>
            <a:off x="4419720" y="1066680"/>
            <a:ext cx="4267080" cy="28958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Cancun Beach Turtles"/>
          <p:cNvPicPr/>
          <p:nvPr/>
        </p:nvPicPr>
        <p:blipFill>
          <a:blip r:embed="rId2"/>
          <a:stretch/>
        </p:blipFill>
        <p:spPr>
          <a:xfrm>
            <a:off x="4572000" y="4343400"/>
            <a:ext cx="3733920" cy="2209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98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98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98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98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98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98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eath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unny, nonsto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" descr="Paradise Beach"/>
          <p:cNvPicPr/>
          <p:nvPr/>
        </p:nvPicPr>
        <p:blipFill>
          <a:blip r:embed="rId1"/>
          <a:stretch/>
        </p:blipFill>
        <p:spPr>
          <a:xfrm>
            <a:off x="5638680" y="2133720"/>
            <a:ext cx="2371680" cy="16192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Cancun Beach Lifeguard"/>
          <p:cNvPicPr/>
          <p:nvPr/>
        </p:nvPicPr>
        <p:blipFill>
          <a:blip r:embed="rId2"/>
          <a:stretch/>
        </p:blipFill>
        <p:spPr>
          <a:xfrm>
            <a:off x="3581280" y="2362320"/>
            <a:ext cx="1562400" cy="15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16:27:07Z</dcterms:created>
  <dc:creator>762913</dc:creator>
  <dc:description/>
  <dc:language>en-US</dc:language>
  <cp:lastModifiedBy>762913</cp:lastModifiedBy>
  <dcterms:modified xsi:type="dcterms:W3CDTF">2009-01-23T16:53:20Z</dcterms:modified>
  <cp:revision>3</cp:revision>
  <dc:subject/>
  <dc:title>Mexico </dc:title>
</cp:coreProperties>
</file>